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52F-6A39-4237-BCE7-7E280336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EAF-9C38-4BF3-9427-A60AC0CB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30D-9C0A-4AFC-858B-4A86BDBE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C7B-26D4-428B-B0C5-A5A47F1E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28C-A1BA-4BAC-9758-A27B2303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6B9-BF1A-4C32-AC13-91E6FA82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9DA-79C3-46C6-B017-EA6898BB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F78-D31C-4D93-A0F6-A506D2EA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720-159E-4C47-8B08-8CC609EC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3AE-E716-4199-9A18-75540E67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F04-6A08-4A59-A304-18F7F4B5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BCC-787D-40F9-968D-6293DA9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162A-C00C-4A69-820E-B9EF35692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bercrombie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reenamerica.org/programs/responsibleshopper/" TargetMode="External"/><Relationship Id="rId2" Type="http://schemas.openxmlformats.org/officeDocument/2006/relationships/hyperlink" Target="http://greenamerica.org/programs/responsibleshopper/" TargetMode="External"/><Relationship Id="rId3" Type="http://schemas.openxmlformats.org/officeDocument/2006/relationships/hyperlink" Target="http://greenamerica.org/programs/responsibleshopper/" TargetMode="External"/><Relationship Id="rId4" Type="http://schemas.openxmlformats.org/officeDocument/2006/relationships/hyperlink" Target="http://www.greenamerica.org/proGrams/responsibleshopper/company.cfm?id=178" TargetMode="External"/><Relationship Id="rId5" Type="http://schemas.openxmlformats.org/officeDocument/2006/relationships/hyperlink" Target="http://www.greenamerica.org/proGrams/responsibleshopper/company.cfm?id=178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5257800"/>
            <a:ext cx="38862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By: Christopher Nun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5105520"/>
            <a:ext cx="7391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Am I Wearing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447920"/>
            <a:ext cx="845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 • </a:t>
            </a: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Abercrombie and Fitch (A&amp;F) clothing is a staple in many high scholars’ closets. Yet for clothing worn primarily by young people, much of it is considered inappropri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• </a:t>
            </a: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A&amp;F was the subject of a boycott for selling t-shirts with sexist slogans and came under fire for selling thong underwear aimed at preteens with messages such as “wink wink” or “eye candy,” and for having a sexually provocative catalog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• </a:t>
            </a: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The company has been sued for discriminating against employees who didn’t fit the Abercrombie “look.” </a:t>
            </a:r>
            <a:r>
              <a:rPr b="1" lang="en-US" sz="2000" spc="-1" strike="noStrike">
                <a:solidFill>
                  <a:srgbClr val="0000ff"/>
                </a:solidFill>
                <a:latin typeface="Broadway"/>
              </a:rPr>
              <a:t>Abercrombie &amp; Fitch sells men's, women's, and children's casual clothes in 850 US stores, catalogs, and onl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roadway"/>
              </a:rPr>
              <a:t>A&amp;F targets teens and college students through its provocative advertising campaig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2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Broadway"/>
              </a:rPr>
              <a:t>Into About  Abercromb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oadway"/>
              </a:rPr>
              <a:t>Where Abercrombie Come From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From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And Contact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Abercrombie &amp; Fitch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New Albany, OH 43054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Phone: 614-283-6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Web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Broadway"/>
                <a:hlinkClick r:id="rId1"/>
              </a:rPr>
              <a:t>www.abercrombi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roadway"/>
              </a:rPr>
              <a:t>I went to http://baggettsenglish3p1.wikispaces.com/ then I found some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roadway"/>
              </a:rPr>
              <a:t>- I clicked on the one that sai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2"/>
              </a:rPr>
              <a:t>greenamerica.org/programs/responsibleshopp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roadway"/>
              </a:rPr>
              <a:t>– </a:t>
            </a:r>
            <a:r>
              <a:rPr b="1" lang="en-US" sz="2400" spc="-1" strike="noStrike">
                <a:solidFill>
                  <a:srgbClr val="0000ff"/>
                </a:solidFill>
                <a:latin typeface="Broadway"/>
              </a:rPr>
              <a:t>Then where say search I put Abercrombie and then I found this pages where I found a lot of information about it.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4"/>
              </a:rPr>
              <a:t>http://www.greenamerica.org/proGrams/responsibleshopper/company.cfm?id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5"/>
              </a:rPr>
              <a:t>=1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roadway"/>
              </a:rPr>
              <a:t>                 </a:t>
            </a:r>
            <a:r>
              <a:rPr b="1" lang="en-US" sz="3200" spc="-1" strike="noStrike">
                <a:solidFill>
                  <a:srgbClr val="0000ff"/>
                </a:solidFill>
                <a:latin typeface="Broadway"/>
              </a:rPr>
              <a:t>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533520" y="0"/>
            <a:ext cx="29718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4:41:48Z</dcterms:created>
  <dc:creator>Administrator</dc:creator>
  <dc:description/>
  <dc:language>en-US</dc:language>
  <cp:lastModifiedBy>LPS</cp:lastModifiedBy>
  <dcterms:modified xsi:type="dcterms:W3CDTF">2010-11-18T16:05:57Z</dcterms:modified>
  <cp:revision>6</cp:revision>
  <dc:subject/>
  <dc:title>By: Christopher Nunez</dc:title>
</cp:coreProperties>
</file>